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047-90A0-4F77-8FBC-747D8A0E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1C5-451C-441B-8F96-8AF44123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D80-0F2A-445A-9691-6E2ECF8E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EA1-871F-4A91-8B35-594E9417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DD4-365A-4968-BFAE-FB2F558E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D02-9194-4529-8D40-A8C2C7CF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635-352D-4F64-BE9B-A3A85FEC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8C6-1C6D-486B-919C-10FD5FFF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51D-553D-4C7A-AFAC-66DB4145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A4A-D388-4D79-B2A8-A77BFD0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14A-78DC-4B2D-A228-902AF1A7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6AD8-61FF-4A4B-8495-75190F22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CCA2-985E-49EB-9C42-9A2A65398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454640" cy="1044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4382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5438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2240" cy="121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934320" y="304920"/>
            <a:ext cx="12189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7696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077320" cy="229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60948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19112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7619760" cy="4187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7772400" cy="744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6248520"/>
            <a:ext cx="1447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5265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5486400"/>
            <a:ext cx="7772400" cy="1101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5638680"/>
            <a:ext cx="1295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6172200"/>
            <a:ext cx="2438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279680" cy="6248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2133720"/>
            <a:ext cx="25909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4952880"/>
            <a:ext cx="12189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638680"/>
            <a:ext cx="1295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2:28:35Z</dcterms:created>
  <dc:creator>grahams</dc:creator>
  <dc:description/>
  <dc:language>en-US</dc:language>
  <cp:lastModifiedBy>grahams</cp:lastModifiedBy>
  <dcterms:modified xsi:type="dcterms:W3CDTF">2012-03-22T12:52:53Z</dcterms:modified>
  <cp:revision>3</cp:revision>
  <dc:subject/>
  <dc:title>Slide 1</dc:title>
</cp:coreProperties>
</file>